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1952-2836-48DC-A2AA-20DAB1D6EE60}" type="datetime">
              <a:rPr b="0" lang="zh-CN" sz="1200" spc="-1" strike="noStrike">
                <a:solidFill>
                  <a:srgbClr val="000000"/>
                </a:solidFill>
                <a:latin typeface="Arial"/>
                <a:ea typeface="宋体"/>
              </a:rPr>
              <a:t>26/7/31</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22F1-4367-4060-A7A1-3D3941FB867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C21B-DF97-4AC9-A4F6-93F40FCFE3CE}"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4022-99EA-442B-8C5D-F79BFE95B2CB}"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7CB3-F8CD-4938-9968-0D7EB9130920}"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A5E2-96FD-4DEC-A715-B5951DFB9996}"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E6C1-AC2E-4852-B93A-7D21980B6468}"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5112-1EFD-4443-9934-1FCE80EE3BB8}"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69C6-6C9F-4F27-ACF7-0EAE22824E5E}"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27F7-77FD-475F-A6C3-A1AE5BB2D3FA}"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7537-14DB-4388-BD2F-EB0E33BDC268}"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7098-0B31-46AE-93F1-D1443586D5AB}"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C82E25-905A-4F36-AD91-7DF214F58C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CA251F-B83A-4914-A946-1BBEC4FC26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ABE82FA-B4C2-46A3-9502-3441D37972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8D4832-23BC-4BE0-9436-FD08B052E6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211DC4-8EF7-4534-BC43-B7EEA8A783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C2F072-CC31-4FE2-9989-5D5792478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DAAB2B-210A-42EB-8E4D-1A522D3FF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8D532F-477A-4394-A6D3-175AD8356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DF76F7-68AC-44C0-AB8E-06FFFD6F2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F878DC-FFAB-477A-922C-4C4408752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326E55-34C8-49A5-9067-7A9B836B3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AE7816-4486-461B-A2A2-E6F7DE036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7256BA-4FC4-4EE7-AEE0-6D70B01B6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4B4B00-08B0-4916-8422-2F7FFE4EB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C5F8E9-BFC8-4695-8C41-D60720150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97D24-B53C-4AE8-AA44-C3D4302A5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FCA2E5-827D-4DE6-B913-49912886C3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373CE7-E96E-49A9-B7BD-D1C1342C13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F59A78-72BC-421E-A996-A137EFD00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226971-7F8D-4A46-BF2F-B2EDDCE379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3A9E8E-A3A8-4803-8181-B921EF0EB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A6DBFB-5C95-4AA4-A482-1ADFFB642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04A2F3-41C1-40BD-B71D-D56767E03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60591B-55A6-48FF-8ED0-485B6B88B2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5949-D847-4DC5-A990-B4607212F77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98D0-FE63-4975-99FB-59708C7B7C2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